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E281E-92E2-46E3-A02E-F14C5BD65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975CB-BD92-492E-A693-119037D95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1E02D-39ED-4620-AC3C-5EEA8313D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626E9-346D-4E54-BA25-1BF778889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CDB8C-E8CF-4F79-9084-479DB6FC1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FF182-A01B-42CF-96F7-CB4F2A8A6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A6943-6BEE-46FF-818E-08654EA4B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A3D95-31C6-4349-8C7B-1A05CA644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73AA5-3036-4289-8C0D-0687E663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57A5-5FBC-4636-A738-2E6813EC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FD067-443E-4343-A996-765C2069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CB79-5C0C-48C1-8384-E064086D4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87C9-EBE2-42BB-A749-820FF177D6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thaca.edu/looksharp/"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ocialstudiesforkids.com/subjects/ancientcivilizations.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12  Outline</a:t>
            </a:r>
            <a:br>
              <a:rPr sz="4400"/>
            </a:b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eaching and Learning with Technology in Social Studies Instruction</a:t>
            </a:r>
            <a:endParaRPr b="0" lang="en-US" sz="3600" spc="-1" strike="noStrike">
              <a:solidFill>
                <a:srgbClr val="000000"/>
              </a:solidFill>
              <a:latin typeface="Calibri"/>
            </a:endParaRPr>
          </a:p>
        </p:txBody>
      </p:sp>
      <p:pic>
        <p:nvPicPr>
          <p:cNvPr id="43" name="Picture 2" descr="C:\Documents and Settings\macdonmi\Local Settings\Temporary Internet Files\Content.IE5\QS937PBQ\MP900437333[1].jpg"/>
          <p:cNvPicPr/>
          <p:nvPr/>
        </p:nvPicPr>
        <p:blipFill>
          <a:blip r:embed="rId1"/>
          <a:stretch/>
        </p:blipFill>
        <p:spPr>
          <a:xfrm>
            <a:off x="7467480" y="1066680"/>
            <a:ext cx="1384560" cy="23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mary Purpose of Social Studie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t>
            </a:r>
            <a:r>
              <a:rPr b="1" lang="en-US" sz="3600" spc="-1" strike="noStrike">
                <a:solidFill>
                  <a:srgbClr val="000000"/>
                </a:solidFill>
                <a:latin typeface="Calibri"/>
              </a:rPr>
              <a:t>.is to prepare the young of today to be the citizen’s of tomorrow.  It is necessary to examine how technology tools impact, improve and otherwise affect teaching and learning in social studies”. (John Lee and Adam Friedman, </a:t>
            </a:r>
            <a:r>
              <a:rPr b="1" i="1" lang="en-US" sz="3600" spc="-1" strike="noStrike">
                <a:solidFill>
                  <a:srgbClr val="000000"/>
                </a:solidFill>
                <a:latin typeface="Calibri"/>
              </a:rPr>
              <a:t>Research on Technology in Social Studies Education</a:t>
            </a:r>
            <a:r>
              <a:rPr b="1" lang="en-US" sz="3600" spc="-1" strike="noStrike">
                <a:solidFill>
                  <a:srgbClr val="000000"/>
                </a:solidFill>
                <a:latin typeface="Calibri"/>
              </a:rPr>
              <a:t>, 200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utcome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Recognize the implications for technology integration of each current issue faced by SS teac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reate Key strategies for integrating technology into curricu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nalyze given scenarios to identify examples of tech-PACK needs and challenges that are specific to 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quired Social Studies Standards</a:t>
            </a:r>
            <a:br>
              <a:rPr sz="4000"/>
            </a:br>
            <a:r>
              <a:rPr b="1" lang="en-US" sz="4000" spc="-1" strike="noStrike">
                <a:solidFill>
                  <a:srgbClr val="000000"/>
                </a:solidFill>
                <a:latin typeface="Calibri"/>
              </a:rPr>
              <a:t>2010</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dress overall curriculum design and comprehensive student performance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CSS=National Council for the Social Stu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mes: Range from Culture to Time/Continuity/Change to Power/Authority and Governance to Civic Ideals and Practices.  10 themes in to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in Teaching Social Studies</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s versus reality</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fferent perspectiv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ime lin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chnology changes and learning curves relating to these chang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mple Sites Provided in </a:t>
            </a:r>
            <a:br>
              <a:rPr sz="4400"/>
            </a:br>
            <a:r>
              <a:rPr b="1" lang="en-US" sz="4400" spc="-1" strike="noStrike">
                <a:solidFill>
                  <a:srgbClr val="000000"/>
                </a:solidFill>
                <a:latin typeface="Calibri"/>
              </a:rPr>
              <a:t>Chapter 12</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ous sites provided and charts provided for use with themes 1 to 10 – keep in mind US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ex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 Construction of War – Project Look Sharp for theme 8 Science, Technology and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thaca.edu/looksha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dapting for Special Need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 with all chapters in this text, chapter 12 also provides ideas for Adapting Social Studies for Special Needs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for Kids – current events written at low reading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socialstudiesforkids.com/subjects/ancientcivilization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Tech-PACK Needs in Social Studies</a:t>
            </a:r>
            <a:br>
              <a:rPr sz="4000"/>
            </a:b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Content  Knowledge – Social Studies is very broad and this increases as the grade levels go up from K-12 - need PD for differe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Pedagogical Knowledge – teachers need to acquire technological learning – need PD for them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Technological Knowledge – need PD depending on skill lev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rap Up Chapter 12</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e page 348 for TOP TEN Strategies List for Integrating Technology in Social Studies Instruction – excellent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rt Chapter – direct in topic information presen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 resources given for web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C:\Documents and Settings\macdonmi\Local Settings\Temporary Internet Files\Content.IE5\QS937PBQ\MC900434784[1].png"/>
          <p:cNvPicPr/>
          <p:nvPr/>
        </p:nvPicPr>
        <p:blipFill>
          <a:blip r:embed="rId1"/>
          <a:stretch/>
        </p:blipFill>
        <p:spPr>
          <a:xfrm>
            <a:off x="6400800" y="3962520"/>
            <a:ext cx="243828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5:44:53Z</dcterms:created>
  <dc:creator>Province of NS</dc:creator>
  <dc:description/>
  <dc:language>en-US</dc:language>
  <cp:lastModifiedBy>Mike</cp:lastModifiedBy>
  <dcterms:modified xsi:type="dcterms:W3CDTF">2012-07-13T10:17:12Z</dcterms:modified>
  <cp:revision>19</cp:revision>
  <dc:subject/>
  <dc:title>Slide 1</dc:title>
</cp:coreProperties>
</file>